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D02-C01A-49ED-ABC2-97E98F40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38A-FC14-4445-9AB3-DF54B1BC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3DA-87A8-418B-B76D-FB0A69BB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181-AA91-43EE-AF40-7C3765A7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B4B-5472-402B-AE46-2220ACF4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A15-623D-45DA-8ED5-955F20EC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843-ECFC-4C7D-8D55-4AD3455E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383-03B9-42C5-9728-BC231A08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F1B-72A5-49EC-B25D-7F72690C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E8B-A1A9-429E-805F-6F42FD7D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63F-C63A-47B2-B730-EF7D2536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466-B088-403D-ABD1-0E954918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B253-CE25-4D99-864F-27BEB820B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19520" y="574560"/>
            <a:ext cx="228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lly Hor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Vadim Le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7720" y="1870200"/>
            <a:ext cx="630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horse has four shoes with black rubber so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of them new, but the others have ho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1520" y="3013200"/>
            <a:ext cx="611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weather is fair, no rain in the new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orse likes to wear her best pair of sh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7480" y="4308480"/>
            <a:ext cx="685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first wave of snowflakes whirls in the ai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goes home to change to a worn-out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3800" y="803160"/>
            <a:ext cx="65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it’s muddy or icy, and folks slip and sli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orse still goes out, but the shoes stay in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50840" y="1905120"/>
            <a:ext cx="56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lly horse, don’t be concerned for a sho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n’t your health more important to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3733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30280" y="3089160"/>
            <a:ext cx="614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r favorite pair of shoes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are they your favorite p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06600" y="407988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new shoes feel on your feet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be the feeling in words to a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5146560"/>
            <a:ext cx="67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old, worn out shoes feel on your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think shoes HEAR, FEEL, SME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, and TOUCH in a day on your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312408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457200"/>
            <a:ext cx="3200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1:48Z</dcterms:created>
  <dc:creator>User</dc:creator>
  <dc:description/>
  <dc:language>en-US</dc:language>
  <cp:lastModifiedBy>Rutherford County Schools</cp:lastModifiedBy>
  <dcterms:modified xsi:type="dcterms:W3CDTF">2007-04-22T18:56:40Z</dcterms:modified>
  <cp:revision>3</cp:revision>
  <dc:subject/>
  <dc:title>No Slide Title</dc:title>
</cp:coreProperties>
</file>